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438D03D-20CC-4957-8815-D043ECE8E0E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59840" y="883620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B3E9E77-0301-4304-A3CC-DB62518C32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18404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75D3702-C1B6-43E9-836F-2B5AAA976CA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A909090-D9C2-47A5-85EB-311F133A343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35AE429-ED5A-494D-9569-C82C243C316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FE2261C-8AE7-494F-B596-D9E3773E726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956CFAA-ED32-4B4F-82B2-0573147132E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ABE3198-460E-44BF-9CA7-880F18933FB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0926E06-6D9B-4D8C-AA4D-FBF256C10D0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C664397-6CB5-4D35-8B8F-AD24711347D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3207CD5-E4D1-442A-A9DC-336312A6897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C876C96-143F-417E-BBB0-525F3ED0465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6670A07-2E48-4789-A8BA-FE10CFC2110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8C60E45E-0635-4C75-A4AE-313C4D4EA826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37B28F41-CDA0-4D7F-8E69-E1C3100ABEA2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38240" y="87588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: Using PSP1.1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ercentage Reuse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01720" y="1438200"/>
            <a:ext cx="3456000" cy="288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percentag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 the total LOC taken from your reuse libr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centage Reuse =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*(R/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682560" y="5067360"/>
            <a:ext cx="741672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ed % Reuse = 10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43/216) = 19.9%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% Reuse = 10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43/226) = 19.0%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ate % Reuse = 10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42/850) = 16.7%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4614840" y="1496880"/>
            <a:ext cx="3976560" cy="3352680"/>
            <a:chOff x="4614840" y="1496880"/>
            <a:chExt cx="3976560" cy="3352680"/>
          </a:xfrm>
        </p:grpSpPr>
        <p:graphicFrame>
          <p:nvGraphicFramePr>
            <p:cNvPr id="197" name="Object 7"/>
            <p:cNvGraphicFramePr/>
            <p:nvPr/>
          </p:nvGraphicFramePr>
          <p:xfrm>
            <a:off x="4614840" y="1496880"/>
            <a:ext cx="3976560" cy="33526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8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14840" y="1496880"/>
                      <a:ext cx="3976560" cy="3352680"/>
                    </a:xfrm>
                    <a:prstGeom prst="rect">
                      <a:avLst/>
                    </a:prstGeom>
                    <a:ln w="25560">
                      <a:solidFill>
                        <a:srgbClr val="000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9" name="Oval 6"/>
            <p:cNvSpPr/>
            <p:nvPr/>
          </p:nvSpPr>
          <p:spPr>
            <a:xfrm>
              <a:off x="6004080" y="2635200"/>
              <a:ext cx="2558880" cy="218880"/>
            </a:xfrm>
            <a:prstGeom prst="ellipse">
              <a:avLst/>
            </a:prstGeom>
            <a:noFill/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ercentage New Reuse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18640" y="1450800"/>
            <a:ext cx="3583080" cy="22989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9000"/>
          </a:bodyPr>
          <a:p>
            <a:pPr>
              <a:lnSpc>
                <a:spcPct val="90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centage New Reuse is the degree to which your development effort is contributing to your reuse libr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centage New Reuse = 10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otal New Reuse/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73200" y="5054760"/>
            <a:ext cx="762300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ed % New Reuse = 10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46/115) = 40.0%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% New Reuse = 10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49/134) = 36.6%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ate % New Reuse = 10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61/626) = 25.7%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203" name="Group 9"/>
          <p:cNvGrpSpPr/>
          <p:nvPr/>
        </p:nvGrpSpPr>
        <p:grpSpPr>
          <a:xfrm>
            <a:off x="4824360" y="1573200"/>
            <a:ext cx="3976920" cy="3354480"/>
            <a:chOff x="4824360" y="1573200"/>
            <a:chExt cx="3976920" cy="3354480"/>
          </a:xfrm>
        </p:grpSpPr>
        <p:graphicFrame>
          <p:nvGraphicFramePr>
            <p:cNvPr id="204" name="Object 7"/>
            <p:cNvGraphicFramePr/>
            <p:nvPr/>
          </p:nvGraphicFramePr>
          <p:xfrm>
            <a:off x="4824360" y="1573200"/>
            <a:ext cx="3976920" cy="33544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05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24360" y="1573200"/>
                      <a:ext cx="3976920" cy="3354480"/>
                    </a:xfrm>
                    <a:prstGeom prst="rect">
                      <a:avLst/>
                    </a:prstGeom>
                    <a:ln w="25560">
                      <a:solidFill>
                        <a:srgbClr val="000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06" name="Oval 6"/>
            <p:cNvSpPr/>
            <p:nvPr/>
          </p:nvSpPr>
          <p:spPr>
            <a:xfrm>
              <a:off x="6296040" y="2844720"/>
              <a:ext cx="2444760" cy="171360"/>
            </a:xfrm>
            <a:prstGeom prst="ellipse">
              <a:avLst/>
            </a:prstGeom>
            <a:noFill/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01720" y="1438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sk and schedule planning templates are not required for small programs, but are helpful for longer tas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1.1 gives you insight into your historical performance (CPI)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13960" y="1438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new elements of PSP1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how to use the PSP1.1 scripts and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prepared to use PSP1.1 for assignments 5A and 6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1.1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01720" y="1438200"/>
            <a:ext cx="76010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s of PSP1.1 are to introduce and practice methods f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ing resource and schedule p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ing your performance against these p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ging likely project completion d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ew Process El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01720" y="1438200"/>
            <a:ext cx="78040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two new process ele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sk plann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dule plann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are typically used for projects that take several days or wee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hey are not required for the PSP exerci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ject plan summary has been expanded to include basic process statistic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 Plan Summary Examp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13960" y="1438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will walk through an example of a completed PSP1.1 project plan summ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new items on this form are illustra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 to table C4 on page 625 of the textbo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0240" y="4968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lanned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8520" y="1434960"/>
            <a:ext cx="34495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ed time summary is taken from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tal Planned Time In Pha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planned time to the sum of planned times from previous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14"/>
          <p:cNvGrpSpPr/>
          <p:nvPr/>
        </p:nvGrpSpPr>
        <p:grpSpPr>
          <a:xfrm>
            <a:off x="936720" y="1565280"/>
            <a:ext cx="3976560" cy="4272120"/>
            <a:chOff x="936720" y="1565280"/>
            <a:chExt cx="3976560" cy="4272120"/>
          </a:xfrm>
        </p:grpSpPr>
        <p:graphicFrame>
          <p:nvGraphicFramePr>
            <p:cNvPr id="170" name="Object 10"/>
            <p:cNvGraphicFramePr/>
            <p:nvPr/>
          </p:nvGraphicFramePr>
          <p:xfrm>
            <a:off x="936720" y="1565280"/>
            <a:ext cx="3976560" cy="42721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7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6720" y="1565280"/>
                      <a:ext cx="3976560" cy="4272120"/>
                    </a:xfrm>
                    <a:prstGeom prst="rect">
                      <a:avLst/>
                    </a:prstGeom>
                    <a:ln w="25560">
                      <a:solidFill>
                        <a:srgbClr val="000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72" name="Oval 5"/>
            <p:cNvSpPr/>
            <p:nvPr/>
          </p:nvSpPr>
          <p:spPr>
            <a:xfrm>
              <a:off x="2490840" y="5481720"/>
              <a:ext cx="349200" cy="183960"/>
            </a:xfrm>
            <a:prstGeom prst="ellipse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3" name="Oval 6"/>
            <p:cNvSpPr/>
            <p:nvPr/>
          </p:nvSpPr>
          <p:spPr>
            <a:xfrm>
              <a:off x="2606760" y="2322360"/>
              <a:ext cx="349200" cy="184320"/>
            </a:xfrm>
            <a:prstGeom prst="ellipse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4" name="Arc 7"/>
            <p:cNvSpPr/>
            <p:nvPr/>
          </p:nvSpPr>
          <p:spPr>
            <a:xfrm>
              <a:off x="2627280" y="2465280"/>
              <a:ext cx="324000" cy="2990880"/>
            </a:xfrm>
            <a:custGeom>
              <a:avLst/>
              <a:gdLst/>
              <a:ahLst/>
              <a:rect l="l" t="t" r="r" b="b"/>
              <a:pathLst>
                <a:path fill="none" w="21600" h="22517">
                  <a:moveTo>
                    <a:pt x="21580" y="0"/>
                  </a:moveTo>
                  <a:cubicBezTo>
                    <a:pt x="21593" y="305"/>
                    <a:pt x="21600" y="611"/>
                    <a:pt x="21600" y="917"/>
                  </a:cubicBezTo>
                  <a:cubicBezTo>
                    <a:pt x="21600" y="12846"/>
                    <a:pt x="11929" y="22516"/>
                    <a:pt x="0" y="22517"/>
                  </a:cubicBezTo>
                </a:path>
                <a:path stroke="0" w="21600" h="22517">
                  <a:moveTo>
                    <a:pt x="21580" y="0"/>
                  </a:moveTo>
                  <a:cubicBezTo>
                    <a:pt x="21593" y="305"/>
                    <a:pt x="21600" y="611"/>
                    <a:pt x="21600" y="917"/>
                  </a:cubicBezTo>
                  <a:cubicBezTo>
                    <a:pt x="21600" y="12846"/>
                    <a:pt x="11929" y="22516"/>
                    <a:pt x="0" y="22517"/>
                  </a:cubicBezTo>
                  <a:lnTo>
                    <a:pt x="0" y="917"/>
                  </a:lnTo>
                  <a:lnTo>
                    <a:pt x="21580" y="0"/>
                  </a:lnTo>
                  <a:close/>
                </a:path>
              </a:pathLst>
            </a:custGeom>
            <a:noFill/>
            <a:ln cap="rnd" w="12600">
              <a:solidFill>
                <a:srgbClr val="3399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75" name="Line 8"/>
          <p:cNvSpPr/>
          <p:nvPr/>
        </p:nvSpPr>
        <p:spPr>
          <a:xfrm flipH="1" flipV="1">
            <a:off x="4624560" y="2469960"/>
            <a:ext cx="519120" cy="712440"/>
          </a:xfrm>
          <a:prstGeom prst="line">
            <a:avLst/>
          </a:prstGeom>
          <a:ln w="1260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0240" y="4968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ctual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862520" y="1427040"/>
            <a:ext cx="37036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time summary is taken from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tal Actual Time In Pha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with planned time, add the actual time to previous actual times from previous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13"/>
          <p:cNvGrpSpPr/>
          <p:nvPr/>
        </p:nvGrpSpPr>
        <p:grpSpPr>
          <a:xfrm>
            <a:off x="919080" y="1503360"/>
            <a:ext cx="3692520" cy="3967200"/>
            <a:chOff x="919080" y="1503360"/>
            <a:chExt cx="3692520" cy="3967200"/>
          </a:xfrm>
        </p:grpSpPr>
        <p:graphicFrame>
          <p:nvGraphicFramePr>
            <p:cNvPr id="179" name="Object 12"/>
            <p:cNvGraphicFramePr/>
            <p:nvPr/>
          </p:nvGraphicFramePr>
          <p:xfrm>
            <a:off x="919080" y="1503360"/>
            <a:ext cx="3692520" cy="3967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80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9080" y="1503360"/>
                      <a:ext cx="3692520" cy="3967200"/>
                    </a:xfrm>
                    <a:prstGeom prst="rect">
                      <a:avLst/>
                    </a:prstGeom>
                    <a:ln w="25560">
                      <a:solidFill>
                        <a:srgbClr val="000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81" name="Oval 5"/>
            <p:cNvSpPr/>
            <p:nvPr/>
          </p:nvSpPr>
          <p:spPr>
            <a:xfrm>
              <a:off x="2925720" y="5168880"/>
              <a:ext cx="349200" cy="184320"/>
            </a:xfrm>
            <a:prstGeom prst="ellipse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2" name="Oval 6"/>
            <p:cNvSpPr/>
            <p:nvPr/>
          </p:nvSpPr>
          <p:spPr>
            <a:xfrm>
              <a:off x="3278160" y="2305080"/>
              <a:ext cx="349200" cy="184320"/>
            </a:xfrm>
            <a:prstGeom prst="ellipse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3" name="Arc 7"/>
            <p:cNvSpPr/>
            <p:nvPr/>
          </p:nvSpPr>
          <p:spPr>
            <a:xfrm>
              <a:off x="3005280" y="2381400"/>
              <a:ext cx="476280" cy="2720880"/>
            </a:xfrm>
            <a:custGeom>
              <a:avLst/>
              <a:gdLst/>
              <a:ahLst/>
              <a:rect l="l" t="t" r="r" b="b"/>
              <a:pathLst>
                <a:path fill="none" w="21594" h="20473">
                  <a:moveTo>
                    <a:pt x="21593" y="516"/>
                  </a:moveTo>
                  <a:cubicBezTo>
                    <a:pt x="21376" y="9600"/>
                    <a:pt x="15497" y="17577"/>
                    <a:pt x="6885" y="20473"/>
                  </a:cubicBezTo>
                </a:path>
                <a:path stroke="0" w="21594" h="20473">
                  <a:moveTo>
                    <a:pt x="21593" y="516"/>
                  </a:moveTo>
                  <a:cubicBezTo>
                    <a:pt x="21376" y="9600"/>
                    <a:pt x="15497" y="17577"/>
                    <a:pt x="6885" y="20473"/>
                  </a:cubicBezTo>
                  <a:lnTo>
                    <a:pt x="0" y="0"/>
                  </a:lnTo>
                  <a:lnTo>
                    <a:pt x="21593" y="516"/>
                  </a:lnTo>
                  <a:close/>
                </a:path>
              </a:pathLst>
            </a:custGeom>
            <a:noFill/>
            <a:ln cap="rnd" w="12600">
              <a:solidFill>
                <a:srgbClr val="3399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84" name="Line 8"/>
          <p:cNvSpPr/>
          <p:nvPr/>
        </p:nvSpPr>
        <p:spPr>
          <a:xfrm flipH="1" flipV="1">
            <a:off x="4355640" y="2408400"/>
            <a:ext cx="628920" cy="599760"/>
          </a:xfrm>
          <a:prstGeom prst="line">
            <a:avLst/>
          </a:prstGeom>
          <a:ln w="1260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PI (Cost Performance Index)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8840" y="1460520"/>
            <a:ext cx="3352680" cy="1411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PI indicates the degree to which you are meeting your time commit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" y="3556080"/>
            <a:ext cx="7851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r CPI is less than 1.0, you are spending more time than planned on your work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85000"/>
              </a:lnSpc>
              <a:spcAft>
                <a:spcPts val="249"/>
              </a:spcAft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85000"/>
              </a:lnSpc>
              <a:spcAft>
                <a:spcPts val="249"/>
              </a:spcAft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r CPI is substantially more than 1.0, your plans are too conservative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188" name="Group 11"/>
          <p:cNvGrpSpPr/>
          <p:nvPr/>
        </p:nvGrpSpPr>
        <p:grpSpPr>
          <a:xfrm>
            <a:off x="911160" y="1515960"/>
            <a:ext cx="4213440" cy="1577880"/>
            <a:chOff x="911160" y="1515960"/>
            <a:chExt cx="4213440" cy="1577880"/>
          </a:xfrm>
        </p:grpSpPr>
        <p:graphicFrame>
          <p:nvGraphicFramePr>
            <p:cNvPr id="189" name="Object 9"/>
            <p:cNvGraphicFramePr/>
            <p:nvPr/>
          </p:nvGraphicFramePr>
          <p:xfrm>
            <a:off x="911160" y="1515960"/>
            <a:ext cx="3976920" cy="1577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0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1160" y="1515960"/>
                      <a:ext cx="3976920" cy="1577880"/>
                    </a:xfrm>
                    <a:prstGeom prst="rect">
                      <a:avLst/>
                    </a:prstGeom>
                    <a:ln w="25560">
                      <a:solidFill>
                        <a:srgbClr val="000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1" name="Oval 6"/>
            <p:cNvSpPr/>
            <p:nvPr/>
          </p:nvSpPr>
          <p:spPr>
            <a:xfrm>
              <a:off x="4303800" y="2479680"/>
              <a:ext cx="399960" cy="247680"/>
            </a:xfrm>
            <a:prstGeom prst="ellipse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2" name="Arc 7"/>
            <p:cNvSpPr/>
            <p:nvPr/>
          </p:nvSpPr>
          <p:spPr>
            <a:xfrm>
              <a:off x="4514760" y="2023920"/>
              <a:ext cx="609840" cy="4636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-1" y="21451"/>
                  </a:moveTo>
                  <a:cubicBezTo>
                    <a:pt x="80" y="9602"/>
                    <a:pt x="9693" y="30"/>
                    <a:pt x="21543" y="0"/>
                  </a:cubicBezTo>
                </a:path>
                <a:path stroke="0" w="21599" h="21600">
                  <a:moveTo>
                    <a:pt x="-1" y="21451"/>
                  </a:moveTo>
                  <a:cubicBezTo>
                    <a:pt x="80" y="9602"/>
                    <a:pt x="9693" y="30"/>
                    <a:pt x="21543" y="0"/>
                  </a:cubicBezTo>
                  <a:lnTo>
                    <a:pt x="21599" y="21600"/>
                  </a:lnTo>
                  <a:lnTo>
                    <a:pt x="-1" y="21451"/>
                  </a:lnTo>
                  <a:close/>
                </a:path>
              </a:pathLst>
            </a:custGeom>
            <a:noFill/>
            <a:ln cap="rnd" w="12600">
              <a:solidFill>
                <a:srgbClr val="3399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07T20:07:52Z</cp:lastPrinted>
  <dcterms:modified xsi:type="dcterms:W3CDTF">2018-09-06T00:16:59Z</dcterms:modified>
  <cp:revision>43</cp:revision>
  <dc:subject/>
  <dc:title>No Slide Title</dc:title>
</cp:coreProperties>
</file>